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8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389700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17440" y="69660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7160" bIns="471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224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72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F11254F8-C77F-41A8-94BC-C3ABDD44AB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8680" y="4416480"/>
            <a:ext cx="5505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ED5C7A47-5675-4751-91A1-D51D9A3D7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43BD-A10B-472B-85C6-155B1CEDA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DE7E-92A8-43BF-AE60-8CFF9096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9F63-9BD5-4406-B455-2491900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B53F-BACA-4EFB-8464-79B18AC1FD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C5772-1867-462C-B923-DC24DFF86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6E60-7476-443B-9E3F-898FC924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6CE8-667E-4808-ACC6-4F93FD3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E7B36-87A7-4576-B91B-22D4178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DB202-A030-44FB-BCFD-3F1591C3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6D10-8B72-4487-8655-9AA78752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8C3E8-61A4-4643-8B6A-1FEAF634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035C-B7A1-43EA-B7B0-32CB9F5C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EB5B-E7B2-44D7-8342-24BFFFC3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DD86-485E-4F4F-A152-2FFFFB11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B0BE6-4407-4AC1-842E-4279205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9160-7BCF-4BC6-9499-A30E0C6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D1A24-7EDE-46B7-813E-F81D6499D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196-7E24-4D43-82E7-07FF858B3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4A6D-7F83-4C14-B967-D479138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6336-5D4A-4D08-A3C3-E47713E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98D4-3903-4646-A2B5-E9C7659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E77-8302-4234-BB7B-4533A8F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D412-0BBC-4393-9CA0-D9AE667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65F8-90B4-4DFB-9751-1C1CB25B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A4E5-DC94-4C46-A4B6-6703ABB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CAE7-79E0-409A-B851-BB7696B6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99B2-C7DC-4588-B43B-7091F37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1CA8-B897-47EE-9DC4-9E5B65F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0A0A-1715-4495-9F04-2262CA4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BA2C-EBC7-4CD9-ACAC-3C9975B28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3D81C-E294-458F-9A16-145942F5D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2127F-D2D9-44B9-B480-15804CF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F63ED-A133-4367-A5CF-5725987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6F04-7AF4-46EF-92BD-8772BB19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12A7F-CDB0-4D64-A643-537B2EC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EBC3D-90FE-44A2-A140-8F7BC5E8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4DAFD-9CDE-4149-A464-35F4148B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665A6-480B-4A2A-BEDB-10C59975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74674-0C0B-4D74-B34C-DC682BB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D1167-80CC-47B8-B5D6-BD008E2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806AD-53E5-4F55-9D25-5294AD9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D8EAE-454C-4CCF-BBB7-9260CF4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A1062-B7BF-4A1B-A8D4-B796D3590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53F7-67F0-4ECD-9C95-58F01357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AFA7-6AAD-4D96-AD7A-FB836006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104F-47DC-487F-BF8F-7DE0CA3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ABDC-CD79-4CF7-9388-BFAB7B8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0D7E-47DE-4AA6-9ACE-1DA7698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7B538-B879-425B-8EEB-17B5EC3F51AE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7DFA4CA-3927-44F9-B1D3-739CD0751F1A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2B9792C-F08A-4F4F-B079-E2AF5BC0329F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5544C-E78C-4488-BC94-ECBC654ED3A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xed-Signal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sign for Simple Spiking Neuron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dullah H. Ozc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mshi Chat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E 6332 – Fall 20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815328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without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9144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using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4920" y="1495440"/>
            <a:ext cx="815328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3429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DC (4bit) Summ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echnology:  0.6 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vg Power:   14.2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Max Power:  23.9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ransistors used: 52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upply Voltage: 5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log Range: 1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mpling Rate: 100 MH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9360" y="4648320"/>
            <a:ext cx="915336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10^11 neurons, each neuron 10-10^5 synap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Uses less power than your refrigerator ligh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Power matters; decreasing energy/spi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33640" y="405756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561440" cy="376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5800" y="609588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arator P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la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4876920"/>
            <a:ext cx="4419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Transistors used: 1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42.1  mW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19.29 mW (% 17 decrease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16002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971800"/>
            <a:ext cx="480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DC, minimizing pow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DAC circuit to drive synaptic input cur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ynaptic Modification Circui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Levy's learning neuron mod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QUESTIONS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ADC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Neuron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onclu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OG TO DIGITAL CONVER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57200" y="685800"/>
            <a:ext cx="8661240" cy="925560"/>
            <a:chOff x="457200" y="685800"/>
            <a:chExt cx="8661240" cy="92556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457200" y="685800"/>
              <a:ext cx="86612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685800"/>
              <a:ext cx="86612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arat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ain Booste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598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rper Transitions in the outpu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ll voltage swi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5335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ncoder 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hplp</cp:lastModifiedBy>
  <dcterms:modified xsi:type="dcterms:W3CDTF">2009-12-01T16:32:39Z</dcterms:modified>
  <cp:revision>19</cp:revision>
  <dc:subject/>
  <dc:title>Slide 1</dc:title>
</cp:coreProperties>
</file>